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/</a:t>
            </a:r>
            <a:fld id="{E568D140-8C16-491D-83A5-F130817897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89496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719240"/>
            <a:ext cx="4951440" cy="44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60BC2-6F51-4730-B516-71ADA913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F81B5-7F4E-4489-8306-9CF8B20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7693-AD74-402E-97D3-AD38444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8CAE6-B88D-44DE-96E7-E6DDB6C1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7A9E5-7DFF-4FEF-9A97-AB766CA3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1688A-02AD-44A5-910B-26EC903A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E2AF-13C6-4452-8990-FD43095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5D380-0087-4D27-9FC6-5561BC2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8F61D-01B0-4692-ADA4-505F61BD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2EAAE-46FD-41E9-8908-A20A2A29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A232A-AFC6-4C54-9F04-133B2CEB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1A19-63BD-4C64-95FD-3ED7B588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2BAE7-A97D-4432-80A4-49B72541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54B05-DBBD-48C4-BCC6-3F2C65A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AAAC5-747B-483E-A4D4-6351CD3E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06A12-4796-48C6-A1AC-3E811E9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0DB4F-B280-4FB9-88F5-6B1173FF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83112-9525-4A7B-921B-B2C1B81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32625-BDC1-41D3-837B-1260E06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75D86-0081-461A-8EE8-53C2285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3D50F-E56E-423D-80DC-3A64093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640A2-6F1F-46D2-BB22-B31F0053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4EF79-57A6-4FDC-8B7F-5373E88B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715F4-55BE-4267-A9F3-14D24A75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2FEF1-D11F-4C57-B3E7-E2459BCF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113A7-72EE-49A4-8269-791B690A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4AE87-585F-4CB9-BB59-A4AA9734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3CC45-1C13-43C2-996A-C39959A6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99799-EF13-4550-B0E2-F571A895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3F467-2004-4D08-A0B9-7812078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CDED6-2A79-42B8-B744-AE58099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6C887-1BF3-4D06-B214-180D239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4831A-3706-4044-ABD6-FFEE95B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138E3-85C6-4776-8581-392400C9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080AE-A9B3-4F9C-A169-292A68DF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8804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38000" y="167652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772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48804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38000" y="3939480"/>
            <a:ext cx="252360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15236-3102-49EA-A292-5FD00614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77612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3880" y="393948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3880" y="1676520"/>
            <a:ext cx="382464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939480"/>
            <a:ext cx="7837560" cy="206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7612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itstream Vera San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8375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DF8D-061E-4C6C-A1B7-C33C99E50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dified version of slide from another presentation2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892-46F5-4977-870C-A1D8706E1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dified version of slide from another presentation2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BE9-EDAF-4847-8C0C-180414DA0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õhimõiste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Bitstream Vera Sans"/>
              </a:rPr>
              <a:t>Põhiprotsessor (CPU) ja mälu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5562720" cy="2592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457200" y="-179280"/>
            <a:ext cx="7848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15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tsessori põhitegevus on mälust info (arvude) lugemine, töötlemine ja mällu tagasi kirjutamine.  Lisaks loeb ja saadab protsessor infot välisseadmetest / seadme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Mis on ja mis ei ole arvuti? Ei ole ühte definitsiooni!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Wikipedia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computer is a general purpose device that can be programmed to carry out a set of arithmetic or logical operations. Since a sequence of operations can be readily changed, the computer can solve more than one kind of problem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Google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 electronic device which is capable of receiving information (data) in a particular form and of performing a sequence of operations in accordance with a predetermined but variable set of procedural instructions (program) to produce a result in the form of information or signals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One course in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Univ. of Virginia</a:t>
            </a:r>
            <a:r>
              <a:rPr b="1" i="1" lang="et-EE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A computer is a device which takes data in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one form, uses it, and produces a different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orm of information which is related to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(but not the same as) the original data.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4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Mis on informatsioon?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üüpiliselt töötleb arvuti ühte nei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umbri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eks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He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isu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ehk pildid ja vide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i käsu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1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õik need info liigid tuleb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arvuti jaoks kõigepea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numbriteks  teisendad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Numbrid arvutis: kahendsüsteem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51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Arvutis on numbrid jadad nullidest ja ühtedest: a la 01010101011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ks: tehniliselt on üks 0/1 valik (üks bitt) lihtne ehitada transistoridest lülitin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Näide paremal: kolme lüliti ehk kolme bitiga saame esitada 8 eri kombinatsiooni ehk arvu 0 ... 7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048120" cy="308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6640" y="383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Bitstream Vera Sans"/>
              </a:rPr>
              <a:t>Numbrid arvutis: kahendsüsteem</a:t>
            </a:r>
            <a:endParaRPr b="1" lang="en-US" sz="20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Bitstream Vera Sans"/>
              </a:rPr>
              <a:t>Arvud 0 ... 7 kahendkujul: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977040" y="2444760"/>
            <a:ext cx="3072600" cy="3484440"/>
            <a:chOff x="977040" y="2444760"/>
            <a:chExt cx="3072600" cy="3484440"/>
          </a:xfrm>
        </p:grpSpPr>
        <p:sp>
          <p:nvSpPr>
            <p:cNvPr id="214" name="AutoShape 4"/>
            <p:cNvSpPr/>
            <p:nvPr/>
          </p:nvSpPr>
          <p:spPr>
            <a:xfrm>
              <a:off x="2498760" y="2556000"/>
              <a:ext cx="1550880" cy="3373200"/>
            </a:xfrm>
            <a:custGeom>
              <a:avLst/>
              <a:gdLst>
                <a:gd name="textAreaLeft" fmla="*/ 360 w 1550880"/>
                <a:gd name="textAreaRight" fmla="*/ 1550520 w 1550880"/>
                <a:gd name="textAreaTop" fmla="*/ 360 h 3373200"/>
                <a:gd name="textAreaBottom" fmla="*/ 3372840 h 3373200"/>
              </a:gdLst>
              <a:ahLst/>
              <a:rect l="textAreaLeft" t="textAreaTop" r="textAreaRight" b="textAreaBottom"/>
              <a:pathLst>
                <a:path w="21600" h="46975">
                  <a:moveTo>
                    <a:pt x="22" y="0"/>
                  </a:moveTo>
                  <a:arcTo wR="22" hR="22" stAng="16200000" swAng="-5400000"/>
                  <a:lnTo>
                    <a:pt x="0" y="46953"/>
                  </a:lnTo>
                  <a:arcTo wR="22" hR="22" stAng="10800000" swAng="-5400000"/>
                  <a:lnTo>
                    <a:pt x="21578" y="46975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Group 5"/>
            <p:cNvGrpSpPr/>
            <p:nvPr/>
          </p:nvGrpSpPr>
          <p:grpSpPr>
            <a:xfrm>
              <a:off x="977040" y="2444760"/>
              <a:ext cx="3072600" cy="3484440"/>
              <a:chOff x="977040" y="2444760"/>
              <a:chExt cx="3072600" cy="348444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2498760" y="2556000"/>
                <a:ext cx="1550880" cy="3373200"/>
              </a:xfrm>
              <a:custGeom>
                <a:avLst/>
                <a:gdLst>
                  <a:gd name="textAreaLeft" fmla="*/ 360 w 1550880"/>
                  <a:gd name="textAreaRight" fmla="*/ 1550520 w 1550880"/>
                  <a:gd name="textAreaTop" fmla="*/ 360 h 3373200"/>
                  <a:gd name="textAreaBottom" fmla="*/ 3372840 h 3373200"/>
                </a:gdLst>
                <a:ahLst/>
                <a:rect l="textAreaLeft" t="textAreaTop" r="textAreaRight" b="textAreaBottom"/>
                <a:pathLst>
                  <a:path w="21600" h="46975">
                    <a:moveTo>
                      <a:pt x="22" y="0"/>
                    </a:moveTo>
                    <a:arcTo wR="22" hR="22" stAng="16200000" swAng="-5400000"/>
                    <a:lnTo>
                      <a:pt x="0" y="46953"/>
                    </a:lnTo>
                    <a:arcTo wR="22" hR="22" stAng="10800000" swAng="-5400000"/>
                    <a:lnTo>
                      <a:pt x="21578" y="4697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977040" y="2444760"/>
                <a:ext cx="1553040" cy="3386520"/>
              </a:xfrm>
              <a:custGeom>
                <a:avLst/>
                <a:gdLst>
                  <a:gd name="textAreaLeft" fmla="*/ 360 w 1553040"/>
                  <a:gd name="textAreaRight" fmla="*/ 1552680 w 1553040"/>
                  <a:gd name="textAreaTop" fmla="*/ 360 h 3386520"/>
                  <a:gd name="textAreaBottom" fmla="*/ 3386160 h 3386520"/>
                </a:gdLst>
                <a:ahLst/>
                <a:rect l="textAreaLeft" t="textAreaTop" r="textAreaRight" b="textAreaBottom"/>
                <a:pathLst>
                  <a:path w="21600" h="47095">
                    <a:moveTo>
                      <a:pt x="22" y="0"/>
                    </a:moveTo>
                    <a:arcTo wR="22" hR="22" stAng="16200000" swAng="-5400000"/>
                    <a:lnTo>
                      <a:pt x="0" y="47073"/>
                    </a:lnTo>
                    <a:arcTo wR="22" hR="22" stAng="10800000" swAng="-5400000"/>
                    <a:lnTo>
                      <a:pt x="21578" y="4709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  <a:tab algn="l" pos="10779120"/>
                    <a:tab algn="l" pos="107805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Group 8"/>
          <p:cNvGrpSpPr/>
          <p:nvPr/>
        </p:nvGrpSpPr>
        <p:grpSpPr>
          <a:xfrm>
            <a:off x="3383640" y="3719520"/>
            <a:ext cx="3540960" cy="542880"/>
            <a:chOff x="3383640" y="3719520"/>
            <a:chExt cx="3540960" cy="542880"/>
          </a:xfrm>
        </p:grpSpPr>
        <p:sp>
          <p:nvSpPr>
            <p:cNvPr id="219" name="AutoShape 9"/>
            <p:cNvSpPr/>
            <p:nvPr/>
          </p:nvSpPr>
          <p:spPr>
            <a:xfrm>
              <a:off x="4724280" y="3809880"/>
              <a:ext cx="2200320" cy="4525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Group 10"/>
            <p:cNvGrpSpPr/>
            <p:nvPr/>
          </p:nvGrpSpPr>
          <p:grpSpPr>
            <a:xfrm>
              <a:off x="3383640" y="3719520"/>
              <a:ext cx="3540960" cy="542880"/>
              <a:chOff x="3383640" y="3719520"/>
              <a:chExt cx="3540960" cy="542880"/>
            </a:xfrm>
          </p:grpSpPr>
          <p:sp>
            <p:nvSpPr>
              <p:cNvPr id="221" name="AutoShape 11"/>
              <p:cNvSpPr/>
              <p:nvPr/>
            </p:nvSpPr>
            <p:spPr>
              <a:xfrm>
                <a:off x="4724280" y="3809880"/>
                <a:ext cx="2200320" cy="452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12"/>
              <p:cNvSpPr/>
              <p:nvPr/>
            </p:nvSpPr>
            <p:spPr>
              <a:xfrm>
                <a:off x="3383640" y="3719520"/>
                <a:ext cx="1720800" cy="46044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t-EE" sz="2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Kahendkuju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Freeform 13"/>
          <p:cNvSpPr/>
          <p:nvPr/>
        </p:nvSpPr>
        <p:spPr>
          <a:xfrm>
            <a:off x="2960640" y="2556000"/>
            <a:ext cx="380880" cy="2820960"/>
          </a:xfrm>
          <a:custGeom>
            <a:avLst/>
            <a:gdLst/>
            <a:ahLst/>
            <a:rect l="l" t="t" r="r" b="b"/>
            <a:pathLst>
              <a:path w="1059" h="7836">
                <a:moveTo>
                  <a:pt x="0" y="0"/>
                </a:moveTo>
                <a:cubicBezTo>
                  <a:pt x="263" y="0"/>
                  <a:pt x="528" y="326"/>
                  <a:pt x="528" y="652"/>
                </a:cubicBezTo>
                <a:lnTo>
                  <a:pt x="528" y="3264"/>
                </a:lnTo>
                <a:cubicBezTo>
                  <a:pt x="528" y="3591"/>
                  <a:pt x="793" y="3917"/>
                  <a:pt x="1058" y="3917"/>
                </a:cubicBezTo>
                <a:cubicBezTo>
                  <a:pt x="793" y="3917"/>
                  <a:pt x="528" y="4243"/>
                  <a:pt x="528" y="4570"/>
                </a:cubicBezTo>
                <a:lnTo>
                  <a:pt x="528" y="7182"/>
                </a:lnTo>
                <a:cubicBezTo>
                  <a:pt x="528" y="7508"/>
                  <a:pt x="263" y="7835"/>
                  <a:pt x="0" y="7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5549760" y="457200"/>
            <a:ext cx="309276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400" spc="-1" strike="noStrike">
                <a:solidFill>
                  <a:srgbClr val="000099"/>
                </a:solidFill>
                <a:latin typeface="Calibri"/>
                <a:ea typeface="Calibri"/>
              </a:rPr>
              <a:t>Teksti kodeerimine numbritek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04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õik tähed teisendatakse numbritek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Tähtede nummerdamiseks on mitu süsteemi ehk tabelit, põhilised neist o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CII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(American Standard Code for Information Interchange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: ainult nö „ameerika“ tähestik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ICOD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laiendatu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ASCII)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sisaldab kõiki tähestikk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UTF8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: levinuim viis Unicode arv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ompaktselt salvest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ide teisendamine numbriteks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ildid tuleb kõigepealt numbriteks teisendad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Pilt lõhutakse väikesteks ruutudeks, mis saavad värvinumbr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eid ruute nimetatakse piksliteks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Picture Elements)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920" indent="-33192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igit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aliseerija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Seade, mis esitab pildi numbrite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1880" indent="-2746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Näited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: s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</a:rPr>
              <a:t>kaneerija, digikaame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 pikslitest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533520" y="1222200"/>
            <a:ext cx="5238720" cy="350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Pilt pikslitest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Lihtsaim variant: mustad ja valged pikslid saavad numbri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0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võ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1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3700440" y="2190600"/>
            <a:ext cx="25304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726840" y="2200320"/>
            <a:ext cx="5946120" cy="4209480"/>
            <a:chOff x="726840" y="2200320"/>
            <a:chExt cx="5946120" cy="4209480"/>
          </a:xfrm>
        </p:grpSpPr>
        <p:sp>
          <p:nvSpPr>
            <p:cNvPr id="236" name="AutoShape 5"/>
            <p:cNvSpPr/>
            <p:nvPr/>
          </p:nvSpPr>
          <p:spPr>
            <a:xfrm>
              <a:off x="726840" y="2200320"/>
              <a:ext cx="5946120" cy="227196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26840" y="2200320"/>
              <a:ext cx="5945400" cy="4209480"/>
              <a:chOff x="726840" y="2200320"/>
              <a:chExt cx="5945400" cy="4209480"/>
            </a:xfrm>
          </p:grpSpPr>
          <p:sp>
            <p:nvSpPr>
              <p:cNvPr id="238" name="AutoShape 7"/>
              <p:cNvSpPr/>
              <p:nvPr/>
            </p:nvSpPr>
            <p:spPr>
              <a:xfrm>
                <a:off x="726840" y="2200320"/>
                <a:ext cx="5945400" cy="22719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8"/>
              <p:cNvSpPr/>
              <p:nvPr/>
            </p:nvSpPr>
            <p:spPr>
              <a:xfrm>
                <a:off x="2310480" y="2200320"/>
                <a:ext cx="2845440" cy="4209480"/>
              </a:xfrm>
              <a:custGeom>
                <a:avLst/>
                <a:gdLst>
                  <a:gd name="textAreaLeft" fmla="*/ 360 w 2845440"/>
                  <a:gd name="textAreaRight" fmla="*/ 2845080 w 2845440"/>
                  <a:gd name="textAreaTop" fmla="*/ 360 h 4209480"/>
                  <a:gd name="textAreaBottom" fmla="*/ 4209120 h 4209480"/>
                </a:gdLst>
                <a:ahLst/>
                <a:rect l="textAreaLeft" t="textAreaTop" r="textAreaRight" b="textAreaBottom"/>
                <a:pathLst>
                  <a:path w="21600" h="31953">
                    <a:moveTo>
                      <a:pt x="12" y="0"/>
                    </a:moveTo>
                    <a:arcTo wR="12" hR="12" stAng="16200000" swAng="-5400000"/>
                    <a:lnTo>
                      <a:pt x="0" y="31941"/>
                    </a:lnTo>
                    <a:arcTo wR="12" hR="12" stAng="10800000" swAng="-5400000"/>
                    <a:lnTo>
                      <a:pt x="21588" y="31953"/>
                    </a:lnTo>
                    <a:arcTo wR="12" hR="12" stAng="5400000" swAng="-5400000"/>
                    <a:lnTo>
                      <a:pt x="21600" y="12"/>
                    </a:lnTo>
                    <a:arcTo wR="12" hR="1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0000000000000000000000000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000000000001000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00000000010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000000000100000000000000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000000000010110000000000000000000000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010000000000011110000000000000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0100100000000011111010101011100000000000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10000000000001111011101111111010000000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00100000110111110111111011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00000011111011110101110100000000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001000111010101010110100000000000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0100000011101010101101010100000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101100000010101001000000000000000000011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10010101000000000000000000000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00001011001010000000000000000000010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1001010101010010010101000000000000000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0001111110100101101110101011000000010110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010011110101111111111101011011010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10111110111111111111111111101111110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10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0001110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0100111111111111111111111111111111111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1000010101111111111111111110111111001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10111101111111111111111111111101101010111010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10101010111111111111111110101101111011110111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01110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1011111111111101111111110010111101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01011111011101110100111111010101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00011111111111111101011111110111111011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imes New Roman"/>
                  </a:rPr>
                  <a:t>000010111110110101011000010111111111111110101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Arvuti käsud numbritena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 arvutis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on hulk lihtsaid käske, mida arvuti protsessor ükshaaval täidab: tõstab numbreid mälust ümber, teeb aritmeetikatehteid, võrdleb numbreid, suunab arvutit ühel juhul jätkamata ühelt mäluaadresssilt, teisel juhul teiselt jne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572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m kirjutataks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algul inimesele mugavas programmeerimiskeeles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da arvuti täita ei osk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siis teisendatakse automaatselt arvuti poolt mõistetavasse masinkoodi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asinkood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tähendab numbrilisi käske,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mida protsessori elektroonika oskab täita.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Calibri"/>
              </a:rPr>
              <a:t>Kõik käsud esitatakse numbritena mälus.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3200" spc="-1" strike="noStrike">
                <a:solidFill>
                  <a:srgbClr val="1f497d"/>
                </a:solidFill>
                <a:latin typeface="Calibri"/>
              </a:rPr>
              <a:t>Terminolo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801720" y="990720"/>
            <a:ext cx="4333680" cy="578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2800" spc="-1" strike="noStrike">
                <a:solidFill>
                  <a:srgbClr val="000099"/>
                </a:solidFill>
                <a:latin typeface="Calibri"/>
                <a:ea typeface="Calibri"/>
              </a:rPr>
              <a:t>Mälumahud</a:t>
            </a:r>
            <a:endParaRPr b="1" lang="en-US" sz="28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4" name="Group 3" descr=""/>
          <p:cNvPicPr/>
          <p:nvPr/>
        </p:nvPicPr>
        <p:blipFill>
          <a:blip r:embed="rId1"/>
          <a:stretch/>
        </p:blipFill>
        <p:spPr>
          <a:xfrm>
            <a:off x="743040" y="1189080"/>
            <a:ext cx="731520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Riistvara ja tarkvara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iistva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üüsilised, käegakatsutavad osad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s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laviatuur, monitor, integraalskeemid j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Tarkva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id ja andm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 on jada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täpseid käsk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66760" y="2895480"/>
            <a:ext cx="1143000" cy="9558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1"/>
          <p:cNvSpPr/>
          <p:nvPr/>
        </p:nvSpPr>
        <p:spPr>
          <a:xfrm>
            <a:off x="5791320" y="4038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343400" y="323208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lgoritm ja program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lgorit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n täpne samm-sammuline, kuid mitte tingimata formaalne juhend millegi tegemiseks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s: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iduretsep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204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Juhend ruutvõrrandi lahendamiseks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 (?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n formaalses, ühese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mõistetavas keeles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käskuden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irja pandud algoritm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rvutid suudavad täita ainult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gramm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naloog- ja digitaalsüsteem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aloogsüste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meid salvestatakse (peegeldatakse) proportsionaalsel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e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termomeeter, vinüülplaat, fo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alsüstee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(pidevad) andmed lõhutakse üksikuteks tükkideks, mis salvestatakse erald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äit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Calibri"/>
              </a:rPr>
              <a:t>e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: CD, arvutiprogramm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kiri tähtede ja bittide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15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8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Ühelt teisele: digitaliseerim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Vinüülplaat: info analoogkujul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5018040" cy="321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447840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Digitaliseeri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200720" cy="50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Digitaalse info salvestamine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463680" y="720720"/>
            <a:ext cx="3676680" cy="3586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3105000" y="2700360"/>
            <a:ext cx="571500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17964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Calibri"/>
                <a:ea typeface="Calibri"/>
              </a:rPr>
              <a:t>Arvuti ehitus</a:t>
            </a:r>
            <a:endParaRPr b="1" lang="en-US" sz="2400" spc="-1" strike="noStrike">
              <a:solidFill>
                <a:srgbClr val="000099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õhiprotsesso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teeb pea kogu töö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õhimäl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hoiab aktiivses kasutuses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olevaid programme ja andmeid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Välismäl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pikaajaliseks säilitamiseks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(kõvaketas,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USB pulk, DVD, ..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Välisseadm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- monitor, klaviatuur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Calibri"/>
              </a:rPr>
              <a:t>, ..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1-26T07:54:50Z</dcterms:modified>
  <cp:revision>36</cp:revision>
  <dc:subject/>
  <dc:title> </dc:title>
</cp:coreProperties>
</file>